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41C-870E-44BC-8C1B-3F5FC8DC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85F-EF46-44F5-AEE0-44C62E5C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875-AA71-4644-9180-D4D081B5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DC4-C75B-463F-865A-E6D68D67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0103-F00A-427D-8C4B-EDACF31E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497B-FE9E-4D99-B78F-F31B0DC7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03CE-463F-48BC-B8ED-DC52C432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A7FE-28B8-41E7-9DB9-44ED606D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BC43-14C0-4C60-866D-AE810CFB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E5EE-55E7-4A45-B7F3-075B498A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F846-CED8-40C8-BB14-8916BA7D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52C-6669-4901-A241-46C68F40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2C56-F975-4E15-82BD-25A00FBC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35F9-6A35-4454-B656-37CBA80A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D14A-013E-4BBE-AD2F-36F06075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616C-2731-4694-B5BC-D1FC9189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AB3F-044B-48E4-A85D-4993E61F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44A-6E81-44B1-AC0A-9ABCE5E2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32E-F09A-4DD3-87B0-1C6F5919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9A2-5168-4930-B519-82C9F962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F33-184C-49AE-8FB5-DC1FEC3E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20B-E06B-4C1B-81DF-37BB3DA6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01EE-63E2-4FF2-82E9-7D68D8F1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1B5-2BA6-4856-A189-A30F48B6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88B3-6DF1-48D1-AA2C-28957CD02387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19ED-9A4F-4839-AF67-20A407B07861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4670-772B-4A2E-B06A-B6C4606F3388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2805-4492-4B23-90FF-2359AC8776D0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53" name="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50864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Arial"/>
              </a:rPr>
              <a:t>Tiedon kuvaaminen Opasnet-wikissä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44464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Virpi Kollan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THL / Y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Avoimen arvioinnin ja Opasnetin käyttökoulutus -seminaa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15.2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rvioinni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Rajaus (Scope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→ kysymy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hin kysymykseen arviointi pyrkii vastaama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rkka rajaus (ajallinen, maantieteellinen jn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rkastellut skenaari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enelle? Kuka osallistu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äärittely (Definition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→ kuinka kysymykseen vastataa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rkasteltavat päätösvaihtoeh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rviointiin olennaisesti liittyvät muuttuj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ulos (Result)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Arial"/>
              </a:rPr>
              <a:t>→ vastaus arvioinnin kysymyk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ulok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Päätelm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don kuvaamisen rooli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ustutkimu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kimusten teke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kimustulosten vaikutus ymmärrykseen todellisuud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äätöksentekijä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sifisten tietotarpeiden määrit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hin kysymyksiin tarvitaan vastauksia, jotta voidaan tehdä parempia päätöksiä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veltava tutki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aaminen esitettyihin kysymyksiin olemassa olevan tiedon pohj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tyksen 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don kuvaamisen periaate Opasneti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äytetyt tietorakent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tkimus, muuttuja, arvio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äyttötarko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k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äytännön esimerkkej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HL:n ylläpitämä wiki-pohjainen verkkosivus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Sivuston tarkoitu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45720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erätä, koostaa ja viestiä yhteiskunnan arvoja ja tieteellistä tiet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)   Edistää arvoihin ja tieteelliseen tietoon pohjautuvaa yhteiskunnallista päätöksentek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iedon kuvaus ja varastoi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yötila tiedon hyödyntämiseen (arviointien te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oa käsitellään avoimen arvioinnin periaatteiden mukaise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7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8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don kuvaamisen periaat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08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iedon tehokas ja tarkoituksenmukainen jäsentämine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vaaminen käyttötarkoituksen vaatimalla tav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essin systemaattisu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08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Yhteiskunnan arvojen ja tieteellisen tiedon kuva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ödynnettävyys arviointien tekemisessä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ittävä yksiselitteisy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ippuvuussuhteiden kuvaam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08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viointien kuvau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ödynnettävyys päätöksenteoss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taavat päätöksenteon kannalta relevantteihin kysymyksi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vioinnin sisällön jäljitettävyys ja laadunvarmis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don kuvaamisen periaat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oa kuvataan pienissä paloi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tandardirak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den tietokokonaisuuden kuvaus  = yksi sivu Opasnet-wiki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ääasiallisesti kuvaamisessa käytetään kolmea erilaista tietorakenn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tkimus (Stu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uttuja (Var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viointi (Assess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orakenteet ovat toisiinsa nähden hierarki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"/>
              </a:rPr>
              <a:t>Edistää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olemassa olevan tiedon hyödyntämistä uuden tiedon tuottamise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"/>
              </a:rPr>
              <a:t>Hajanainen tieto ohjautuu osaksi suurempia kokonaisuuk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Perustutkimus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(Tutkim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odellisuuden ymmärtäminen (Muuttu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Päätösten vaikutus todellisuuteen (Arvioi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rakenteet: Tutkimus (Study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koitus: yhden tieteellisen tutkimuksen kuvaami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sten julkituo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sten saatavuus ja tehokas hyödyntä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äpinäkyvyys: tehokkaan vertaisarvioinnin mahdollista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ken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kimuksen tavo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äytetyt menetelm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kset (tuotettu aineisto, analyysit aineisto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rattavissa perinteiseen tieteelliseen julkaisu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istää tulosten hyödyntämist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kset tuodaan suoraan niitä hyödyntävään järjestelmää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kset jäsentyvät tehokkaammin osaksi laajempaa tietokokonaisuu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rakenteet: Muuttuja (Variable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koitus: kuvata tarkasti jokin rajattu pala todellisuu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m. jokin ympäristössä havaittava ilmiö tai yhteiskunnassa havaittava arvopäätelm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lkinta todellisuudesta saatavilla olevan tiedon val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odaan usein kyseistä kuvausta vaativan arvioinnin yhteydess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kuitenkaan sidonnainen mihinkään yksittäiseen arviointi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jalliselta luonteeltaan jatku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vaus kehittyy tiedon kertye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yrkimys täydellisen todenmukaiseen kuvauks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äytännössä useimmiten ainoastaan lähestyy täydellisyyttä, koska tieto on aina puutteel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ksittäisiä tutkimuksia hyödynnetään muuttujien kuvaamises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uuttuja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6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Rajaus (Scop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tä ilmiötä muuttuja pyrkii kuvaama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hdollisimman tarkka ja yksiselitteinen raj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äärittely (Defini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lmiöstä saatavilla oleva ti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624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iippuvuussuhteet muihin ilmiöi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624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ttausainei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Kuinka kuvaus on johdettu saatavilla olevan tiedon pohj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ulos (Resu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rsinainen kuv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ämän hetken p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ras ymmärrys ilmiön todellisesta luonte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vantitatiivinen / kvalitatiivinen määrit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yrkimys aina mahdollisimman tarkkaan, kvantitatiiviseen kuvauks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rakenteet: Arviointi (Assessment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koitus: pyrkii vastaamaan johonkin tiettyyn, ennalta märiteltyyn tietotarpee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m. kuinka tietyt päätökset / toimet vaikuttavat johonkin ilmiö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vioinnin rajaus on aina tilannesidonna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aus perustuu synteesiin kaikista niistä ilmiöistä, jotka vaikuttavat arvioinnin kohtee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ostuu kokoelmasta olennaisia muuttuj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hdistelmä tieteellistä tietoa ja arvopäätelmi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jallisesti rajat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a alkunsa tietyn tietotarpeen määrittelyst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äättyy viimeistään päätöksentek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352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viointien kautta tieto ja ymmärrys siirtyvät osaksi päätöksentek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8:45:02Z</dcterms:created>
  <dc:creator>ctep</dc:creator>
  <dc:description/>
  <dc:language>en-US</dc:language>
  <cp:lastModifiedBy>ctep</cp:lastModifiedBy>
  <dcterms:modified xsi:type="dcterms:W3CDTF">2010-02-15T06:47:07Z</dcterms:modified>
  <cp:revision>131</cp:revision>
  <dc:subject>suomi</dc:subject>
  <dc:title>Tiedon kuvaaminen Opasnet-wikissä</dc:title>
</cp:coreProperties>
</file>